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67A9-8376-47FC-A670-45507D56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01DF-79DC-441B-AF51-910167B4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C85F-9530-4CFF-8435-A30219FD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F81-6634-4BC1-A7E1-D5573F7A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8FF0-47BF-4B65-9FB2-0AE18C4F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F7EA-C55D-4B9E-B92B-67004ED6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12E4-6992-4225-919B-4361955E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F837-6AD8-47E0-86EC-455B8046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A067-1D15-440F-BE2D-6BA599D1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29A9-7C01-4683-A9D0-6BFDB50B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73C6-40D7-46B1-8F5A-B5A81746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E73-3FE8-4E4D-A618-79F9EBC7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B9AA-DEAC-4306-A48F-28A8BDA5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1431-5BEE-4652-B11B-21137CD7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1F32-8CFB-4E80-AE9A-9D24C11A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16CE-52C6-4C3B-8127-587B504E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7F8C-A49D-4B35-B5B3-B93D33F8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322-B94C-4D56-98D4-B52959C5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274-5506-4410-9135-612C9CCE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E40-012A-45D3-B5F6-EB23BEA3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3986-2906-4584-88FC-FE82DCE7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E7C0-89D2-4A40-A717-52CBBEE8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EF58-10C7-4680-9BFD-45ECC4A3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1B24-D231-4DF2-AD31-E2424A4B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19A2-9E2F-4B6A-A668-3CCDCD042547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BRYŁ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0E2A-5457-4094-B0F2-C44A7DFF7517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5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SIAT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ROSTOPADŁOŚCIAN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OWSTAWANIE SIAT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997920"/>
            <a:ext cx="38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cinanie prostopadłościan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46280" y="1673280"/>
          <a:ext cx="147456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1673280"/>
                    <a:ext cx="147456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367000" y="1494000"/>
          <a:ext cx="1471680" cy="118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7000" y="1494000"/>
                    <a:ext cx="147168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941640" y="1538280"/>
          <a:ext cx="1900440" cy="175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41640" y="1538280"/>
                    <a:ext cx="190044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192720" y="1538280"/>
          <a:ext cx="2303640" cy="175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92720" y="1538280"/>
                    <a:ext cx="23036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971640" y="347256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 rozcięciu prostopadłościanu otrzymujemy jego siatk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637000" y="4014720"/>
          <a:ext cx="3778200" cy="204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37000" y="4014720"/>
                    <a:ext cx="377820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06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IATKI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153756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atka prostopadłościanu może mieć różne kształ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Obraz 232" descr=""/>
          <p:cNvPicPr/>
          <p:nvPr/>
        </p:nvPicPr>
        <p:blipFill>
          <a:blip r:embed="rId1"/>
          <a:stretch/>
        </p:blipFill>
        <p:spPr>
          <a:xfrm>
            <a:off x="971640" y="2438280"/>
            <a:ext cx="783108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06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IATKA SZE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797360" y="2754360"/>
          <a:ext cx="943200" cy="9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7360" y="2754360"/>
                    <a:ext cx="9432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285920" y="1042920"/>
          <a:ext cx="2924280" cy="220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5920" y="1042920"/>
                    <a:ext cx="292428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276640" y="4284720"/>
          <a:ext cx="2923920" cy="220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6640" y="4284720"/>
                    <a:ext cx="292392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272360" y="1133640"/>
          <a:ext cx="1484280" cy="364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72360" y="1133640"/>
                    <a:ext cx="148428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6058080" y="2259000"/>
            <a:ext cx="1258560" cy="765360"/>
          </a:xfrm>
          <a:prstGeom prst="line">
            <a:avLst/>
          </a:prstGeom>
          <a:ln w="4428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985920" y="3968640"/>
            <a:ext cx="855720" cy="720720"/>
          </a:xfrm>
          <a:prstGeom prst="line">
            <a:avLst/>
          </a:prstGeom>
          <a:ln w="4428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266640" y="2979720"/>
            <a:ext cx="1305000" cy="449280"/>
          </a:xfrm>
          <a:prstGeom prst="line">
            <a:avLst/>
          </a:prstGeom>
          <a:ln w="4428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57:22Z</dcterms:modified>
  <cp:revision>89</cp:revision>
  <dc:subject/>
  <dc:title>Slajd 1</dc:title>
</cp:coreProperties>
</file>